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EE3D-CF87-4BFF-BA21-5365D6E4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lassify rock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ineral composition, color, and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rocks classifi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lassify rock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ineral composition, color, and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rocks classifi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lassify rock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ineral composition, color, and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rocks classifi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 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gneous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of magma or 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Sedimentary Rocks form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rticles and remains of plants and animals are press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metamorphic rocks forme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rock is changed by heat, pressure, or chemical reaction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 simple strategy has good results when reading informational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ategies are effective but are too difficult to use or general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8622-DAA6-43AB-8E9A-DF1F4D6E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61D-B740-4EE8-A3AC-FD027145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B47-C056-4F15-9A64-BB5E1A4A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B18-75C3-404E-B49C-C48809F9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EBF-2D49-49CA-823A-DAD2C27E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DDB-7F30-48B7-8326-05267B1A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362-C805-472D-AB15-996AC796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5F6-8153-4A3D-B8BE-513E74B8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057-16D4-4DA4-9EE6-0ACA0AF4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2CC-97AF-4A2E-9FE0-28B94589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56D-7ECB-44A8-88A9-E9A6F682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357-89A0-45F5-86CE-6190EF23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CCA-A857-463C-AB9A-412C42C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B70-60A9-4E2C-AF21-2C3487D6B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CAC6-70D5-4BCA-88A2-32CFD2EB4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-point used in a Middle School demonstration lesson (science) presented by Anita L. Archer, PHD.  A number of expository reading strategies were demonstrated including previewing and self-questio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0FDC-817A-4BBD-A39E-2F823D8AD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362A-3276-45BB-9761-7F4134FF8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you classify rock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rocks classified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8615-EA36-4547-8F60-6C7EB9A07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you classify rock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rocks classified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s are classified by mineral composition, color, and textu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A581-42AE-4617-A36B-8C520183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2133720"/>
                <a:gridCol w="5638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A5A9-70ED-442E-9EDB-1E6C8CE3B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8A31-A07A-479D-A7DA-F4B5694FB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2133720"/>
                <a:gridCol w="5638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 are formed when magma or lava cool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EAFE-6F36-4E78-B462-1879CAA9C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0EFA-4CAA-4029-B090-B3C493E7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basalt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8696-33C0-4B12-B2AA-A3544E2D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elded-tuf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5505-10AB-4630-B9A2-6A68789EC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m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29" descr="pumic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154F-5769-4157-9131-187B89928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Rocks-1"/>
          <p:cNvPicPr/>
          <p:nvPr/>
        </p:nvPicPr>
        <p:blipFill>
          <a:blip r:embed="rId1"/>
          <a:stretch/>
        </p:blipFill>
        <p:spPr>
          <a:xfrm>
            <a:off x="906480" y="609480"/>
            <a:ext cx="73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43ED-406A-46AD-AEDD-5E04C2591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granite-coarse-grained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3A5A-D61F-4128-9EA6-7F8F9BD28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idi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obsidian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EBD9-41DD-4A0D-AB5A-583D1B2E2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A528-3997-457F-B7DF-4A6C2003B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481644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 are formed when rock particles and remains of plants and animals are pressed togeth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0E22-21BB-4FE2-BBAE-DF8617CE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0943-7A99-4708-BF0D-026B16E8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oal-anthracit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9183600" y="608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BA85-3601-497E-99A2-3C4177F1C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lom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conglomerat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FA28-6C70-458A-AE5B-A6450CBE0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28" descr="limeston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C10D-C3F6-4EF6-9976-7E40C6D8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hal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30F6-D2EE-46CF-A1FA-F9BF325A3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andston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100C-D149-42FA-A462-212CBDAD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rocks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9211-A73A-47BB-B246-5C4E860B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7AC9-BD46-4AA1-BEC9-C1AAAD8F7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Rock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981080"/>
          <a:ext cx="7772400" cy="481644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eous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igneous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sedimentary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etamorphic rocks for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orphic rocks are formed when existing rock is changed by heat, pressure, or chemical reaction deep in the eart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73CC-B9C7-4E7E-9BB0-3B15E9D7B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2709-5A11-4A3B-8AC5-507853D57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o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mphibolite-2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6E28-4FAE-4F10-851A-1297E67D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ei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neiss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E8C3-5DD2-4D0B-8FD1-D46AC182C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quartzit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07D0-47E4-4E62-BDDC-941E75555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late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EFE1-0A20-477A-AC05-D7C9717E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muscovite-schist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5BAE-E9D3-423D-98EC-3D1996529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648F-83CF-4339-861F-75A207214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1981080"/>
          <a:ext cx="7772400" cy="3619800"/>
        </p:xfrm>
        <a:graphic>
          <a:graphicData uri="http://schemas.openxmlformats.org/drawingml/2006/table">
            <a:tbl>
              <a:tblPr/>
              <a:tblGrid>
                <a:gridCol w="2133720"/>
                <a:gridCol w="5638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5B45-303C-4C54-98C0-6C1003F1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US03CHA0022-FB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9134-D56E-42BF-8F46-80B165479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sedona-02-500"/>
          <p:cNvPicPr/>
          <p:nvPr/>
        </p:nvPicPr>
        <p:blipFill>
          <a:blip r:embed="rId1"/>
          <a:stretch/>
        </p:blipFill>
        <p:spPr>
          <a:xfrm>
            <a:off x="2744640" y="609480"/>
            <a:ext cx="3654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3BC1-CA80-4CDC-8C3B-358EE55F5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means to div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groups or types so that thing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characteristics are in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6DA2-2390-49A3-AAC5-C25A4143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A4D9-BBBD-4EE1-B023-80EFB8DEA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fore Reading - Pre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coal"/>
              </a:rPr>
              <a:t>Warm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Before you read a chapter or a section of a chapter in your science, social studies, or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book, Warm-up.   Get an idea of the chapt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s content by previe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thes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Sub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harcoal"/>
              </a:rPr>
              <a:t>Questions          </a:t>
            </a:r>
            <a:r>
              <a:rPr b="0" lang="en-US" sz="1000" spc="-1" strike="noStrike">
                <a:solidFill>
                  <a:srgbClr val="000000"/>
                </a:solidFill>
                <a:latin typeface="Charcoal"/>
              </a:rPr>
              <a:t>Curriculum Associates, </a:t>
            </a:r>
            <a:r>
              <a:rPr b="0" i="1" lang="en-US" sz="1000" spc="-1" strike="noStrike">
                <a:solidFill>
                  <a:srgbClr val="000000"/>
                </a:solidFill>
                <a:latin typeface="Charcoal"/>
              </a:rPr>
              <a:t>Skills for School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EA5E-CCD5-42A6-A127-247A8E3BA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Question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h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a question or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1:32:53Z</dcterms:created>
  <dc:creator>Archer Anita</dc:creator>
  <dc:description/>
  <dc:language>en-US</dc:language>
  <cp:lastModifiedBy>Becky Brandl</cp:lastModifiedBy>
  <dcterms:modified xsi:type="dcterms:W3CDTF">2012-07-20T19:41:58Z</dcterms:modified>
  <cp:revision>14</cp:revision>
  <dc:subject/>
  <dc:title>ROCKS</dc:title>
</cp:coreProperties>
</file>